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7.png" ContentType="image/png"/>
  <Override PartName="/ppt/media/image24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1.wmf" ContentType="image/x-wm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9.gif" ContentType="image/gif"/>
  <Override PartName="/ppt/media/image6.gif" ContentType="image/gif"/>
  <Override PartName="/ppt/media/image44.wmf" ContentType="image/x-wmf"/>
  <Override PartName="/ppt/media/image43.jpeg" ContentType="image/jpeg"/>
  <Override PartName="/ppt/media/image45.png" ContentType="image/png"/>
  <Override PartName="/ppt/media/image51.jpeg" ContentType="image/jpeg"/>
  <Override PartName="/ppt/media/image47.jpeg" ContentType="image/jpeg"/>
  <Override PartName="/ppt/media/image59.gif" ContentType="image/gif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46.png" ContentType="image/png"/>
  <Override PartName="/ppt/media/image57.jpeg" ContentType="image/jpeg"/>
  <Override PartName="/ppt/media/image58.jpeg" ContentType="image/jpeg"/>
  <Override PartName="/ppt/media/image40.jpeg" ContentType="image/jpeg"/>
  <Override PartName="/ppt/media/image39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gif" ContentType="image/gif"/>
  <Override PartName="/ppt/media/image30.gif" ContentType="image/gif"/>
  <Override PartName="/ppt/media/image55.jpeg" ContentType="image/jpeg"/>
  <Override PartName="/ppt/media/image56.jpeg" ContentType="image/jpeg"/>
  <Override PartName="/ppt/media/image3.png" ContentType="image/png"/>
  <Override PartName="/ppt/media/image12.gif" ContentType="image/gif"/>
  <Override PartName="/ppt/media/image23.gif" ContentType="image/gif"/>
  <Override PartName="/ppt/media/image49.jpeg" ContentType="image/jpe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0DB2-6ED8-4C5C-9B52-E282D0CE97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0DC0-2667-4206-AF96-2D923B6716E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E0D-1569-4C6F-A7F8-1E7A5119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760-51E0-484D-9CEA-970F6D21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DAB-1B93-483C-8E33-D0C80B48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52A-3284-4335-A11F-4D2587CE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2C32-C94B-402B-8C9D-07E980E0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539B-C921-46AA-BC3C-D7DE1158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DC2E-4CD3-43C9-BA09-2F1E9558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EEF7-DEF8-434E-ABA9-A2B99E81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A082-4955-4E55-ACBF-D0836023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B85C-1A5E-4EAB-99C0-8CE8C7D7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CFE8-DCCD-4666-9DA0-70C9C7F4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09F-39B7-43DD-81B6-66EED0A1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921B-C935-439A-A8C7-4200E31C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9862-2618-4415-8AD2-CC1BD33F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946C-A6AA-43BF-9A7E-5BF64BE0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387A-236D-4AB5-8923-299607BB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37B9-454D-4451-BCB1-B9D2669B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AFF-5046-45C1-919D-5921F5E9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8D8-447D-41CC-984E-8A1248A9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93C-10F3-48E5-A613-D24C4B53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84E-12CF-430D-B545-8D63BD17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BF2-D548-4DD8-A7E8-0129F1C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A8D-9F0D-4F6F-B740-2F270D1C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62C-A701-4213-B9C4-5F2502E7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4B61-CD0F-4AF5-AF91-9D4CCF8E3C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9D3F-D1F5-48B0-B716-BA9F959435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5;&#1088;&#1086;&#1090;&#1086;&#1082;&#1086;&#1083;&#1099;%20&#1084;&#1086;&#1085;&#1080;&#1090;&#1086;&#1088;&#1080;&#1085;&#1075;&#1072;%202008%20-%202009.xl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3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42;&#1080;&#1079;&#1080;&#1090;&#1082;&#1072;.pub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7D7C-4AFD-41B3-B595-2F603E768DE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нение ИКТ - технолог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905120"/>
            <a:ext cx="447192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F3F0-A632-49DF-BAF9-85E488884FB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1С Бухгалтерия -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7FBA-844B-4D5C-9EE3-92AC2D3FB25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4" descr="computerkey_color.gif"/>
          <p:cNvPicPr/>
          <p:nvPr/>
        </p:nvPicPr>
        <p:blipFill>
          <a:blip r:embed="rId1"/>
          <a:stretch/>
        </p:blipFill>
        <p:spPr>
          <a:xfrm>
            <a:off x="2895480" y="2743200"/>
            <a:ext cx="3353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Excel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Протоколы мониторинга 2008 - 2009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x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6DF2-4F55-4C74-B3E4-7B785F2B087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 Microsoft Office Word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Рейтинг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\Сводная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3" descr="AG00583_.gif"/>
          <p:cNvPicPr/>
          <p:nvPr/>
        </p:nvPicPr>
        <p:blipFill>
          <a:blip r:embed="rId4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E3B9-3A24-47F9-B52E-6AC5D571327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2590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\Визитка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Рисунок 6" descr="email1.gif"/>
          <p:cNvPicPr/>
          <p:nvPr/>
        </p:nvPicPr>
        <p:blipFill>
          <a:blip r:embed="rId2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Garamond"/>
              </a:rPr>
              <a:t>Документы\Открытка родителям о секции.</a:t>
            </a:r>
            <a:r>
              <a:rPr b="0" lang="en-US" sz="1400" spc="-1" strike="noStrike">
                <a:solidFill>
                  <a:srgbClr val="33cccc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Рисунок 4" descr="ani-lap.gif"/>
          <p:cNvPicPr/>
          <p:nvPr/>
        </p:nvPicPr>
        <p:blipFill>
          <a:blip r:embed="rId1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48F5-F314-4945-979A-AC962229C79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Физкульт-Ура-бюллетень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Рисунок 4" descr="fundisk2.gif"/>
          <p:cNvPicPr/>
          <p:nvPr/>
        </p:nvPicPr>
        <p:blipFill>
          <a:blip r:embed="rId1"/>
          <a:stretch/>
        </p:blipFill>
        <p:spPr>
          <a:xfrm>
            <a:off x="2819520" y="1676520"/>
            <a:ext cx="35431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ривитие учащимся навыков ЗО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бота с одарёнными детьм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490C-D3D6-4AE6-9C10-A72B876DCE6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76920"/>
            <a:ext cx="1609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3159-BAC4-405E-BE80-0E9C590C5EE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2800" spc="-1" strike="noStrike">
                <a:solidFill>
                  <a:srgbClr val="45bd29"/>
                </a:solidFill>
                <a:latin typeface="Garamond"/>
              </a:rPr>
              <a:t>Microsoft Office PowerPoint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Ученики. Первые презентаци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6" descr="cdrom.gif"/>
          <p:cNvPicPr/>
          <p:nvPr/>
        </p:nvPicPr>
        <p:blipFill>
          <a:blip r:embed="rId1"/>
          <a:stretch/>
        </p:blipFill>
        <p:spPr>
          <a:xfrm>
            <a:off x="5257800" y="243828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1.JPG"/>
          <p:cNvPicPr/>
          <p:nvPr/>
        </p:nvPicPr>
        <p:blipFill>
          <a:blip r:embed="rId1"/>
          <a:stretch/>
        </p:blipFill>
        <p:spPr>
          <a:xfrm>
            <a:off x="2895480" y="838080"/>
            <a:ext cx="3200400" cy="51832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5F3A-BEBF-4088-9118-888B7B3A231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оретическое тестиров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22EF-2148-4DCA-8EA4-BE3F2301C6E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Wagon.gif"/>
          <p:cNvPicPr/>
          <p:nvPr/>
        </p:nvPicPr>
        <p:blipFill>
          <a:blip r:embed="rId1"/>
          <a:stretch/>
        </p:blipFill>
        <p:spPr>
          <a:xfrm>
            <a:off x="5943600" y="53341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6199-B523-4874-8393-9575ADE2F10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Рисунок 5" descr="201.gif"/>
          <p:cNvPicPr/>
          <p:nvPr/>
        </p:nvPicPr>
        <p:blipFill>
          <a:blip r:embed="rId1"/>
          <a:stretch/>
        </p:blipFill>
        <p:spPr>
          <a:xfrm>
            <a:off x="5638680" y="4038480"/>
            <a:ext cx="18478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7" descr="LCD.JPG"/>
          <p:cNvPicPr/>
          <p:nvPr/>
        </p:nvPicPr>
        <p:blipFill>
          <a:blip r:embed="rId3"/>
          <a:stretch/>
        </p:blipFill>
        <p:spPr>
          <a:xfrm>
            <a:off x="1447920" y="2590920"/>
            <a:ext cx="2671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Спортивные с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Содержимое 5" descr="Мини-футбол.jpg"/>
          <p:cNvPicPr/>
          <p:nvPr/>
        </p:nvPicPr>
        <p:blipFill>
          <a:blip r:embed="rId1"/>
          <a:stretch/>
        </p:blipFill>
        <p:spPr>
          <a:xfrm>
            <a:off x="2438280" y="1828800"/>
            <a:ext cx="4159440" cy="4495680"/>
          </a:xfrm>
          <a:prstGeom prst="rect">
            <a:avLst/>
          </a:prstGeom>
          <a:ln w="0">
            <a:noFill/>
          </a:ln>
        </p:spPr>
      </p:pic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440C-09C5-4A6D-B31C-D8B2DB8BE95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Подвижные игры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2 класса – 2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3-4 классов – 35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к городским соревнованиям по лёгкой атлетике, «Весёлым стартам», турниру по игре «Перестрелка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965C-FEEE-4AC4-A2C6-6DA8E76AC54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Рисунок 5" descr="P1010626.JPG"/>
          <p:cNvPicPr/>
          <p:nvPr/>
        </p:nvPicPr>
        <p:blipFill>
          <a:blip r:embed="rId1"/>
          <a:stretch/>
        </p:blipFill>
        <p:spPr>
          <a:xfrm>
            <a:off x="51055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P1030040.JPG"/>
          <p:cNvPicPr/>
          <p:nvPr/>
        </p:nvPicPr>
        <p:blipFill>
          <a:blip r:embed="rId2"/>
          <a:stretch/>
        </p:blipFill>
        <p:spPr>
          <a:xfrm>
            <a:off x="990720" y="4059360"/>
            <a:ext cx="3200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«Олимпиец»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6 классы – 15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11 классы – 10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5" descr="Баскет-Ульян.jpg"/>
          <p:cNvPicPr/>
          <p:nvPr/>
        </p:nvPicPr>
        <p:blipFill>
          <a:blip r:embed="rId1"/>
          <a:stretch/>
        </p:blipFill>
        <p:spPr>
          <a:xfrm>
            <a:off x="457200" y="2971800"/>
            <a:ext cx="1447920" cy="2171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аша.jpg"/>
          <p:cNvPicPr/>
          <p:nvPr/>
        </p:nvPicPr>
        <p:blipFill>
          <a:blip r:embed="rId2"/>
          <a:stretch/>
        </p:blipFill>
        <p:spPr>
          <a:xfrm>
            <a:off x="2362320" y="41148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Футбол-олимп.jpg"/>
          <p:cNvPicPr/>
          <p:nvPr/>
        </p:nvPicPr>
        <p:blipFill>
          <a:blip r:embed="rId3"/>
          <a:stretch/>
        </p:blipFill>
        <p:spPr>
          <a:xfrm>
            <a:off x="4419720" y="3048120"/>
            <a:ext cx="1523880" cy="2292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photo044.jpg"/>
          <p:cNvPicPr/>
          <p:nvPr/>
        </p:nvPicPr>
        <p:blipFill>
          <a:blip r:embed="rId4"/>
          <a:stretch/>
        </p:blipFill>
        <p:spPr>
          <a:xfrm>
            <a:off x="6629400" y="4952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photo128.jpg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photo153.jpg"/>
          <p:cNvPicPr/>
          <p:nvPr/>
        </p:nvPicPr>
        <p:blipFill>
          <a:blip r:embed="rId6"/>
          <a:stretch/>
        </p:blipFill>
        <p:spPr>
          <a:xfrm>
            <a:off x="6553080" y="289548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195C-1B4F-4066-8288-5248753E110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Наши результаты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участия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 соревнованиях, конкурс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 олимпиад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за последние 3 года 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6" name="Рисунок 3" descr="j0410807.wmf"/>
          <p:cNvPicPr/>
          <p:nvPr/>
        </p:nvPicPr>
        <p:blipFill>
          <a:blip r:embed="rId1"/>
          <a:stretch/>
        </p:blipFill>
        <p:spPr>
          <a:xfrm>
            <a:off x="7085160" y="2286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440C-A0C0-4B8D-BBBF-5347EE17B29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ервенство города</a:t>
            </a:r>
            <a:br>
              <a:rPr sz="48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Весёлые старты» (29 школ)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5 мес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место  - по качеству испол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3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5E3E-1396-40C3-A0F5-502A5121262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Рисунок 4" descr="PDVD_016.BMP"/>
          <p:cNvPicPr/>
          <p:nvPr/>
        </p:nvPicPr>
        <p:blipFill>
          <a:blip r:embed="rId1"/>
          <a:stretch/>
        </p:blipFill>
        <p:spPr>
          <a:xfrm>
            <a:off x="1066680" y="41148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PDVD_000.BMP"/>
          <p:cNvPicPr/>
          <p:nvPr/>
        </p:nvPicPr>
        <p:blipFill>
          <a:blip r:embed="rId2"/>
          <a:stretch/>
        </p:blipFill>
        <p:spPr>
          <a:xfrm>
            <a:off x="5410080" y="4114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ой турнир по игре «Перестрелка» (28 школ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52480" y="190476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8 год – 3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 – 1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B9B9-A9D3-4842-B25E-86FDA4D3FB5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Содержимое 5" descr="Изображение 012.jpg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P1020479.JPG"/>
          <p:cNvPicPr/>
          <p:nvPr/>
        </p:nvPicPr>
        <p:blipFill>
          <a:blip r:embed="rId2"/>
          <a:stretch/>
        </p:blipFill>
        <p:spPr>
          <a:xfrm>
            <a:off x="4800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ая легкоатлетическая эстафет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009 год – 4 мест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C885-2FF1-49E6-A104-CD21369A980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Рисунок 7" descr="P1010624.JPG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P1010620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Городские Олимпиады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2 первых места,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6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4 призовых места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A1BB-AAD4-44EC-84DB-D4B4618C23D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Рисунок 6" descr="СШ 10.jpg"/>
          <p:cNvPicPr/>
          <p:nvPr/>
        </p:nvPicPr>
        <p:blipFill>
          <a:blip r:embed="rId1"/>
          <a:stretch/>
        </p:blipFill>
        <p:spPr>
          <a:xfrm>
            <a:off x="4267080" y="495288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1 место.jpg"/>
          <p:cNvPicPr/>
          <p:nvPr/>
        </p:nvPicPr>
        <p:blipFill>
          <a:blip r:embed="rId2"/>
          <a:stretch/>
        </p:blipFill>
        <p:spPr>
          <a:xfrm>
            <a:off x="6400800" y="4952880"/>
            <a:ext cx="1633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8" descr="Олимпиада-команда.JPG"/>
          <p:cNvPicPr/>
          <p:nvPr/>
        </p:nvPicPr>
        <p:blipFill>
          <a:blip r:embed="rId3"/>
          <a:stretch/>
        </p:blipFill>
        <p:spPr>
          <a:xfrm>
            <a:off x="1143000" y="5105520"/>
            <a:ext cx="2168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Работа с одарёнными детьм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56386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52480" y="380988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CE2B-E067-4838-A779-09E80964E53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Осокин Александр, 10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ская Олимпиада-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е – 4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ёгкая атлетика – 6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мнастика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скетбол – 1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астник Олимпиады РМЭ -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Рисунок 5" descr="Осокин.jpg"/>
          <p:cNvPicPr/>
          <p:nvPr/>
        </p:nvPicPr>
        <p:blipFill>
          <a:blip r:embed="rId1"/>
          <a:stretch/>
        </p:blipFill>
        <p:spPr>
          <a:xfrm>
            <a:off x="6781680" y="2286000"/>
            <a:ext cx="2057400" cy="26971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EEA3-692C-464E-9240-27442123979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Олимпиады РМЭ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Петров Евгений, 9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3 призовых ме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Чекулаев Алексей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1 призовое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Вичужанина Марина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6 место в многоборь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место  в гимнастике, 3 место в баскетбо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Осокин Александр, 10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е место –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Гимнастика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Баскетбол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F1A4-B460-44EA-9455-75E4F7C47F0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Детская Олимпиада РМЭ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«Старты надежд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места и 7 призовых мест в номинация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ризовых места в общем зачё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 и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EED4-DCBA-4143-A05E-A176A503793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Рисунок 4" descr="1.jpg"/>
          <p:cNvPicPr/>
          <p:nvPr/>
        </p:nvPicPr>
        <p:blipFill>
          <a:blip r:embed="rId1"/>
          <a:stretch/>
        </p:blipFill>
        <p:spPr>
          <a:xfrm>
            <a:off x="7543800" y="1981080"/>
            <a:ext cx="1066680" cy="15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Иванов.jpg"/>
          <p:cNvPicPr/>
          <p:nvPr/>
        </p:nvPicPr>
        <p:blipFill>
          <a:blip r:embed="rId2"/>
          <a:stretch/>
        </p:blipFill>
        <p:spPr>
          <a:xfrm>
            <a:off x="6934320" y="3886200"/>
            <a:ext cx="182232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Филиппов1.jpg"/>
          <p:cNvPicPr/>
          <p:nvPr/>
        </p:nvPicPr>
        <p:blipFill>
          <a:blip r:embed="rId3"/>
          <a:stretch/>
        </p:blipFill>
        <p:spPr>
          <a:xfrm>
            <a:off x="7924680" y="3886200"/>
            <a:ext cx="102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гиональный конкурс творческих проектов учащихся начальных классов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Я – исследователь» -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352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Белова Юлия, 3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Гимнастика. Что мы о ней зна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сертификат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арнина Полина, 4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Кёрлинг. Невероятно, но очевидн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диплом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0306-0DA8-4EDF-9577-F1BB70D212E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7" descr="NOTEBOOK.JPG"/>
          <p:cNvPicPr/>
          <p:nvPr/>
        </p:nvPicPr>
        <p:blipFill>
          <a:blip r:embed="rId1"/>
          <a:stretch/>
        </p:blipFill>
        <p:spPr>
          <a:xfrm>
            <a:off x="7162920" y="304920"/>
            <a:ext cx="15332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7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3B16-BC3E-4CBA-A233-E66E253DD84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533520" y="685800"/>
            <a:ext cx="807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«Физическое воспитание в школе должно бы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акже хорошо организовано, как и умственное вос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.Ф.Эрисма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Рисунок 6" descr="j0398269.wmf"/>
          <p:cNvPicPr/>
          <p:nvPr/>
        </p:nvPicPr>
        <p:blipFill>
          <a:blip r:embed="rId1"/>
          <a:stretch/>
        </p:blipFill>
        <p:spPr>
          <a:xfrm>
            <a:off x="7383600" y="4495680"/>
            <a:ext cx="1520640" cy="164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j0396692.wmf"/>
          <p:cNvPicPr/>
          <p:nvPr/>
        </p:nvPicPr>
        <p:blipFill>
          <a:blip r:embed="rId2"/>
          <a:stretch/>
        </p:blipFill>
        <p:spPr>
          <a:xfrm>
            <a:off x="380880" y="441972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j0397440.wmf"/>
          <p:cNvPicPr/>
          <p:nvPr/>
        </p:nvPicPr>
        <p:blipFill>
          <a:blip r:embed="rId3"/>
          <a:stretch/>
        </p:blipFill>
        <p:spPr>
          <a:xfrm>
            <a:off x="5562720" y="44197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j0398265.wmf"/>
          <p:cNvPicPr/>
          <p:nvPr/>
        </p:nvPicPr>
        <p:blipFill>
          <a:blip r:embed="rId4"/>
          <a:stretch/>
        </p:blipFill>
        <p:spPr>
          <a:xfrm>
            <a:off x="1981080" y="4343400"/>
            <a:ext cx="1525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j0396718.wmf"/>
          <p:cNvPicPr/>
          <p:nvPr/>
        </p:nvPicPr>
        <p:blipFill>
          <a:blip r:embed="rId5"/>
          <a:stretch/>
        </p:blipFill>
        <p:spPr>
          <a:xfrm>
            <a:off x="3809880" y="4572000"/>
            <a:ext cx="1447920" cy="16066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4445-8B17-4703-81CC-B880EE71C80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Цель работы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победителей и призёров соревнований, конкурсов и Олимпиад по предмету «Физическая культ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Рисунок 3" descr="j0354472.gif"/>
          <p:cNvPicPr/>
          <p:nvPr/>
        </p:nvPicPr>
        <p:blipFill>
          <a:blip r:embed="rId1"/>
          <a:stretch/>
        </p:blipFill>
        <p:spPr>
          <a:xfrm>
            <a:off x="5562720" y="32004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j0398329.wmf"/>
          <p:cNvPicPr/>
          <p:nvPr/>
        </p:nvPicPr>
        <p:blipFill>
          <a:blip r:embed="rId2"/>
          <a:stretch/>
        </p:blipFill>
        <p:spPr>
          <a:xfrm>
            <a:off x="914400" y="3809880"/>
            <a:ext cx="3352680" cy="23893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B32-1956-4BD8-8BEA-F7381CEBBA8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9efee"/>
                </a:solidFill>
                <a:latin typeface="Garamond"/>
              </a:rPr>
              <a:t>Задачи 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репление здоровья учащихся, привитие учащимся навыков здорового образа жизни, интереса к занятиям физической культурой и 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ление одарённых детей, диагностика талантов, прогнозирование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учащихся к сдаче экзамена по выбору (9 классы)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ая ориентация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0DA5-9BEF-4AC0-97C3-0D0D75CE2C2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5" descr="TEACHER.GIF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449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j0185587.gif"/>
          <p:cNvPicPr/>
          <p:nvPr/>
        </p:nvPicPr>
        <p:blipFill>
          <a:blip r:embed="rId2"/>
          <a:stretch/>
        </p:blipFill>
        <p:spPr>
          <a:xfrm>
            <a:off x="75438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Формы работ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беждение детей и их родителей в необходимости раскрытия внутреннего потенциала ребён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именение индивидуальных заданий на урока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полнительные занятия в спортивных секция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оведение внеклассных мероприятий по выходным дня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рганизация соревновательной практи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дготовка судей по спорту, физоргов класса, инструкторов гимнастики до занят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етическая подготовка учащихся (выпуск брошюр, раздаточный материал с тестами, электронный тренажёр, самоподготовк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трудничество со специалистами из СДЮШОР по спортивной гимнастик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9D67-906B-4208-8FB1-E70599CDEF2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Рисунок 4" descr="j0336916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1469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j0185588.gif"/>
          <p:cNvPicPr/>
          <p:nvPr/>
        </p:nvPicPr>
        <p:blipFill>
          <a:blip r:embed="rId2"/>
          <a:stretch/>
        </p:blipFill>
        <p:spPr>
          <a:xfrm>
            <a:off x="7696080" y="533520"/>
            <a:ext cx="10670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8493120" cy="62071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4BAA-BBDC-4AA0-BC1E-82196059D22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 - 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3EB5-DA47-459C-A7C6-D0A4FFE387A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772400" y="380880"/>
            <a:ext cx="91584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енд-мониторинг физической подготовленности.jpg"/>
          <p:cNvPicPr/>
          <p:nvPr/>
        </p:nvPicPr>
        <p:blipFill>
          <a:blip r:embed="rId2"/>
          <a:stretch/>
        </p:blipFill>
        <p:spPr>
          <a:xfrm>
            <a:off x="7162920" y="4191120"/>
            <a:ext cx="18097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07-29T10:36:29Z</dcterms:modified>
  <cp:revision>205</cp:revision>
  <dc:subject/>
  <dc:title>Team Name</dc:title>
</cp:coreProperties>
</file>